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01C8-131D-46DC-B892-5C9AB52AF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637C-0ADB-457C-95C6-4959E4AA7F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C22E-4114-411E-8D6B-E8A418B083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F7D7-BBA2-4B1B-8B45-DD45B4A02E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021-C501-468C-894F-17713DD8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0A5-D432-431F-ACED-F66C3095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E1B-2450-490E-A7D6-E42AD0C6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5D0-5799-416F-B9E8-4BA3ACB5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152-41B5-4C73-98B9-D803861C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C84-36B0-4460-8058-6402A24E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5B7-717B-46FB-A604-FB914390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C43-EB62-4A61-A6A3-AED3A435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533-037F-4485-8FD4-03469767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C35-21D6-40EB-9FB8-248D4E1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A88-10F0-4743-90B0-6BDA9E96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D84-F4D0-461E-AE88-F001ECAA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8F05-7D00-4A86-BFB7-514C99A4D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VV\Desktop\Таблички_cr_cr.jpg"/>
          <p:cNvPicPr/>
          <p:nvPr/>
        </p:nvPicPr>
        <p:blipFill>
          <a:blip r:embed="rId1"/>
          <a:srcRect l="0" t="0" r="78257" b="0"/>
          <a:stretch/>
        </p:blipFill>
        <p:spPr>
          <a:xfrm>
            <a:off x="250920" y="0"/>
            <a:ext cx="72072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5778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76360" cy="55548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042920" y="189000"/>
            <a:ext cx="57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1252080"/>
            <a:ext cx="6997680" cy="52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003400" y="1413000"/>
            <a:ext cx="714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Роль информационно-библиотечных центров ново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093080" y="189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VV\Desktop\Таблички_cr.jpg"/>
          <p:cNvPicPr/>
          <p:nvPr/>
        </p:nvPicPr>
        <p:blipFill>
          <a:blip r:embed="rId5"/>
          <a:stretch/>
        </p:blipFill>
        <p:spPr>
          <a:xfrm>
            <a:off x="179280" y="1052640"/>
            <a:ext cx="676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Актуальные тренды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Georgi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1197000"/>
          <a:ext cx="8964720" cy="4675320"/>
        </p:xfrm>
        <a:graphic>
          <a:graphicData uri="http://schemas.openxmlformats.org/drawingml/2006/table">
            <a:tbl>
              <a:tblPr/>
              <a:tblGrid>
                <a:gridCol w="2430720"/>
                <a:gridCol w="3300120"/>
                <a:gridCol w="3233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Абоненты сотовой связ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8,2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и сети Интерне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5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устройств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ъем продаж носимых «умных» устройств достиг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270 млн шт. в 2019 г. (свыше 80% из них –«умные» устройства ), развитие эко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азвитие Интернета вещей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мировые затраты ИТ-компаний в рамках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«Интернета вещей в 2020 г. составя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6 трлн долл.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ы станут авторами 20% всех деловых документов, а «роботы-боссы» будут контролировать более      3 млн. работников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Технология 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D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печ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 2020 г. продажи промышленных 3D-принтеров вырастет на 164%ежегодно (медицина, энергетика, машиностроение, космос)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rcRect l="29509" t="3459" r="0" b="0"/>
          <a:stretch/>
        </p:blipFill>
        <p:spPr>
          <a:xfrm>
            <a:off x="4427640" y="1197000"/>
            <a:ext cx="151128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17348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310" t="0" r="21361" b="0"/>
          <a:stretch/>
        </p:blipFill>
        <p:spPr>
          <a:xfrm>
            <a:off x="4284720" y="2421000"/>
            <a:ext cx="16542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8859" t="11782" r="0" b="5537"/>
          <a:stretch/>
        </p:blipFill>
        <p:spPr>
          <a:xfrm>
            <a:off x="2556000" y="242100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4225" t="0" r="0" b="2090"/>
          <a:stretch/>
        </p:blipFill>
        <p:spPr>
          <a:xfrm>
            <a:off x="3995640" y="4724280"/>
            <a:ext cx="19065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84360" y="3860640"/>
            <a:ext cx="2449440" cy="9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Нормативно-правовая ба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125000"/>
            <a:ext cx="8558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оссийской Федерации «Об утверждении Стратегии развития воспитания в Российской Федерации на период до 2025 года» от 29.05. 2015 г. № 996-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ограмма «Цифровая экономика Российской Федерации до 2025 года» утверждена Правительством РФ от 28 июля 2017 года под №1632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казом Президента Российской Федерации от 1 декабря 2016 г. №642  утверждена «Стратегия научно-технологического развития Российской Федерации на период до 2035 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Ф от 18 апреля 2016 г. N 317 утверждена государственная программа "О реализации Национальной технологической инициативы на период до 203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иказ Минобрнауки РФ №715 от 15.06.2016 года «Об утверждении Концепции развития школьных информационно-библиотечных центров на период 2016-2020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0028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105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Единое информационно-образовате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1915920"/>
            <a:ext cx="4017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4103640" cy="342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9334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3280" y="60930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Цифровая образовательн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1800" cy="455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5472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eorgia"/>
              </a:rPr>
              <a:t>Насы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ерсон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озрастос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237360"/>
            <a:ext cx="88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4" descr=""/>
          <p:cNvPicPr/>
          <p:nvPr/>
        </p:nvPicPr>
        <p:blipFill>
          <a:blip r:embed="rId1"/>
          <a:stretch/>
        </p:blipFill>
        <p:spPr>
          <a:xfrm>
            <a:off x="785880" y="281160"/>
            <a:ext cx="7572240" cy="58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06600" y="6141960"/>
            <a:ext cx="81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020"/>
          <p:cNvPicPr/>
          <p:nvPr/>
        </p:nvPicPr>
        <p:blipFill>
          <a:blip r:embed="rId1"/>
          <a:srcRect l="0" t="0" r="0" b="6824"/>
          <a:stretch/>
        </p:blipFill>
        <p:spPr>
          <a:xfrm>
            <a:off x="503280" y="0"/>
            <a:ext cx="8319960" cy="612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584280" y="6111720"/>
            <a:ext cx="83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Семинар «Создание информационно-библиотечных центров нового поколения в образовательных учрежде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VV\Desktop\Таблички_cr.jpg"/>
          <p:cNvPicPr/>
          <p:nvPr/>
        </p:nvPicPr>
        <p:blipFill>
          <a:blip r:embed="rId1"/>
          <a:stretch/>
        </p:blipFill>
        <p:spPr>
          <a:xfrm>
            <a:off x="88920" y="1415880"/>
            <a:ext cx="7362720" cy="49723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2244600" y="189000"/>
            <a:ext cx="454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6320" y="1252440"/>
            <a:ext cx="6997680" cy="44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93880" y="574524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1092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236000" y="260280"/>
            <a:ext cx="431640" cy="49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VV\Desktop\Таблички_cr_cr.jpg"/>
          <p:cNvPicPr/>
          <p:nvPr/>
        </p:nvPicPr>
        <p:blipFill>
          <a:blip r:embed="rId5"/>
          <a:srcRect l="0" t="0" r="78257" b="0"/>
          <a:stretch/>
        </p:blipFill>
        <p:spPr>
          <a:xfrm>
            <a:off x="324000" y="26028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1258920" y="333360"/>
            <a:ext cx="58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8:20:22Z</dcterms:created>
  <dc:creator>User</dc:creator>
  <dc:description/>
  <dc:language>en-US</dc:language>
  <cp:lastModifiedBy>User</cp:lastModifiedBy>
  <dcterms:modified xsi:type="dcterms:W3CDTF">2019-03-22T05:13:01Z</dcterms:modified>
  <cp:revision>4</cp:revision>
  <dc:subject/>
  <dc:title> </dc:title>
</cp:coreProperties>
</file>